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6F7-BF62-4236-915C-B5F5CC03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E84-9DE0-468B-A326-E3B9CA19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EAE-3EB6-4596-9C18-71BD554D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67F-0216-4DAC-B947-67A709D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76D-FE76-43D0-BD4C-69B66B5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A690-BECB-4CB4-AA5E-BFA4AAA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958-A630-485C-80B2-CD11CD3A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0727-20AD-43E4-B54C-3D19E51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E20A-5D8E-46B3-89E4-8313EAE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3BE1-4EAB-4B6C-858B-0AF5F08F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9653-81F6-4FEA-A905-BA5D73B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EC9-E9D7-4582-8BB5-CF99078C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1F4-140C-44A6-9C12-1C0FD0A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1A97-A068-42EE-8CEF-ABD88FC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5A7-A394-43D0-AB75-B70AEE17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41BB-410F-47A3-983B-FDB7A132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8EB-6131-4348-87C5-14D989A1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98F-0C28-44A0-84D8-07D43E4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4C8-AB49-4C3E-97A4-4DB24829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745-1F4F-4CAB-8913-0B353D5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9F1-DC11-46C8-AE70-93AEBB8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34B-A6BF-47F7-8D2D-4924596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0F9-E104-4E39-92AC-3B38723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13E-DDD9-4B4A-954F-AC3A05D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FEC74-6FB4-409A-918C-C9025402655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FFEC9-FC84-41B5-BA66-E2488DDA436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DAD6E-FE71-42AE-9ED1-C06100B269D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54221-5A15-4E32-B49E-F7047F03EC6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0" lang="en-US" sz="5900" spc="-1" strike="noStrike">
                <a:solidFill>
                  <a:srgbClr val="2c7c9f"/>
                </a:solidFill>
                <a:latin typeface="Apple Chancery"/>
              </a:rPr>
              <a:t>Beautiful Summer</a:t>
            </a:r>
            <a:endParaRPr b="0" lang="en-US" sz="59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838080"/>
            <a:ext cx="64994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620120" cy="55627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3"/>
          <a:stretch/>
        </p:blipFill>
        <p:spPr>
          <a:xfrm>
            <a:off x="682560" y="146160"/>
            <a:ext cx="76262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7" descr=""/>
          <p:cNvPicPr/>
          <p:nvPr/>
        </p:nvPicPr>
        <p:blipFill>
          <a:blip r:embed="rId2"/>
          <a:stretch/>
        </p:blipFill>
        <p:spPr>
          <a:xfrm>
            <a:off x="542880" y="450720"/>
            <a:ext cx="8051760" cy="100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gradFill rotWithShape="0">
            <a:gsLst>
              <a:gs pos="0">
                <a:srgbClr val="2181aa"/>
              </a:gs>
              <a:gs pos="100000">
                <a:srgbClr val="b7ccdc"/>
              </a:gs>
            </a:gsLst>
            <a:lin ang="5400000"/>
          </a:gradFill>
          <a:ln w="12600">
            <a:solidFill>
              <a:srgbClr val="287a9e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Relax 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Enjoy family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Travel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542880" y="298440"/>
            <a:ext cx="8051760" cy="13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1" name="Picture 3" descr="Photo-0400.jpg"/>
          <p:cNvPicPr/>
          <p:nvPr/>
        </p:nvPicPr>
        <p:blipFill>
          <a:blip r:embed="rId3"/>
          <a:stretch/>
        </p:blipFill>
        <p:spPr>
          <a:xfrm>
            <a:off x="1015920" y="1295280"/>
            <a:ext cx="675648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953440" y="636912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mber and Johnathan Martin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542880" y="103320"/>
            <a:ext cx="8051760" cy="1347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2347560"/>
            <a:ext cx="3840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Driving Lessons             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Basketball camp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alking and exercise progra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Gardening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Family reunion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Sweet sixteen party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Vacation bible school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Grasp lesson (Edu. Lessons)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ct preparation (daughter)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2347560"/>
            <a:ext cx="3840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amp ou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ii parties (son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ark visi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Zoo visi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hicago tri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hopping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ce cream soi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en par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t clas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Photo-0401.jpg"/>
          <p:cNvPicPr/>
          <p:nvPr/>
        </p:nvPicPr>
        <p:blipFill>
          <a:blip r:embed="rId2"/>
          <a:stretch/>
        </p:blipFill>
        <p:spPr>
          <a:xfrm>
            <a:off x="681120" y="685800"/>
            <a:ext cx="5871960" cy="5897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05720" y="1599840"/>
            <a:ext cx="188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Johnathan having fun in the best area of sto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542880" y="103320"/>
            <a:ext cx="8051760" cy="13474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5" descr="Photo-0396.jpg"/>
          <p:cNvPicPr/>
          <p:nvPr/>
        </p:nvPicPr>
        <p:blipFill>
          <a:blip r:embed="rId3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Place to Relax</a:t>
            </a:r>
            <a:endParaRPr b="0" lang="en-US" sz="5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Content Placeholder 3" descr="Photo-0395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7" descr="Photo-0393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762120"/>
            <a:ext cx="8042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21:21Z</dcterms:created>
  <dc:creator>College of Education</dc:creator>
  <dc:description/>
  <dc:language>en-US</dc:language>
  <cp:lastModifiedBy>College of Education</cp:lastModifiedBy>
  <dcterms:modified xsi:type="dcterms:W3CDTF">2009-07-25T19:31:45Z</dcterms:modified>
  <cp:revision>3</cp:revision>
  <dc:subject/>
  <dc:title> Beautiful Summer</dc:title>
</cp:coreProperties>
</file>